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6.gif" ContentType="image/gif"/>
  <Override PartName="/ppt/media/image5.gif" ContentType="image/gif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9.jpeg" ContentType="image/jpeg"/>
  <Override PartName="/ppt/media/image15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686-CD20-40EC-8798-9A914006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A0E-BA5A-4797-A5B4-331794D7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623-BC94-41B0-92F2-AA867E22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65C-FFA5-4EF7-AF99-5EFF180C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ED9-B429-41E2-A8D5-F215F13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529-4D27-4838-A88E-D93EDC2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A51-8A67-46A1-AC71-84BE1DB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26E-7CA4-468E-8617-9F8DA12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B31-9AF4-4AF6-A7CA-6526464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98D-8D6B-4397-974E-97B914F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359-66A1-43A5-A763-70B1480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174-0B46-4A6C-BE4B-FC790C4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7DC-5C42-4F50-B0F2-887F9AD9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lip ‘n G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n animal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3400" y="144792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640" y="2819520"/>
            <a:ext cx="828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rink        swell &amp; burst     stay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2819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well &amp;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2560" y="4756320"/>
            <a:ext cx="20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3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 are membra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eins that help water molecu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 across cell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1080" y="53352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QUAPOR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8320" y="3635280"/>
            <a:ext cx="82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fference in the concentr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molecules across a space is called 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952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entration grad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 transport does NOT require energy to move molecu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9000" y="53352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320" y="312408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used by ions lik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 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 Cl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N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and K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1055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with Ion cha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K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can also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the 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- K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pu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some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membrane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lp m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ons move across cell membranes using __________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960" y="3705120"/>
            <a:ext cx="85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riers, ion channels, aquaporins,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200400" cy="2244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3920" y="548640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kind of transport that us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 proteins to help molecules move across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320" y="2209680"/>
            <a:ext cx="773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carrier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ion channel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aquaporin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(osmo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-K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 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t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s cert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pa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nd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4120" y="4419720"/>
            <a:ext cx="55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mi permeabl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ectively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5181840" cy="3891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6248520"/>
            <a:ext cx="683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from:</a:t>
            </a: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d.umn.edu/~sdowning/Membranes/membraneImages/jpegimages/diffusionmedium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kind of transport that 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sicles to move substance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6560" y="2438280"/>
            <a:ext cx="588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inocytosis, phagocytosi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,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2600" y="4267080"/>
            <a:ext cx="85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kind of transpor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s WATER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562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SMOSI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Facilitated diffusion with aquapori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reshwater fish has about 1% salt in his body. Freshwater is close to 0% sa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water move into or out of this kind of fi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8400" y="380880"/>
            <a:ext cx="340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re solu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lecules insid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fish’s ce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an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shwater.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HYPOTON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ter will mov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O th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rganelle makes the ATP used to run the 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2000" y="312408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9400" y="4495680"/>
            <a:ext cx="747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of endocytosis in which ce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in small molecules or fl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867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609480"/>
            <a:ext cx="4419720" cy="2608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81480" y="380880"/>
            <a:ext cx="286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lionden.com/cell_animation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hite circles stand for oxygen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what you know about diffusion of molecules to predict which way the oxygen will mo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80" y="5257800"/>
            <a:ext cx="8584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om the lungs into the blood</a:t>
            </a:r>
            <a:br>
              <a:rPr sz="40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ove from a High concentration to low concent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925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rier protei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this one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 prote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l      periph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920" y="12193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teg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7800" y="4191120"/>
            <a:ext cx="75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dioxide and oxygen mo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ross membranes in cells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210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hrinking away of the cell membrane from the cell wall in a plant cell when placed in a HYPERTONIC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2200" y="121932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5909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GRAL MEMBRANE PROTEIN that moves molecules PASSIVELY across cell membranes by attaching, CHANGING SHAPE, and flipping to the other side like a revolving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76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ri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743200" cy="22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7000" y="661356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486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ype of transport that moves substances OUT of cell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6880" y="1905120"/>
            <a:ext cx="23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8680" y="3635280"/>
            <a:ext cx="69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for activ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es from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925720" cy="1611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55000" y="0"/>
            <a:ext cx="468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990099"/>
                </a:solidFill>
                <a:latin typeface="Arial"/>
              </a:rPr>
              <a:t>http://www.estrellamountain.edu/faculty/farabee/biobk/BioBooktrans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used by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ons to 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5560" y="190512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 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76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895480"/>
            <a:ext cx="75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that moves C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r C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diagram represents an animal cell in a ___________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6920" y="160020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s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280" y="3048120"/>
            <a:ext cx="4761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go cyt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go plasmolys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y the sam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733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y the sam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380880"/>
            <a:ext cx="2360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9040" y="3352680"/>
            <a:ext cx="840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INTEGRAL MEMBRANE PROTEIN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a passageway/tunnel across the c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rane through which IONS can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 cha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105160" cy="2824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12960" y="0"/>
            <a:ext cx="31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voltgat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if the transport is ACTIVE or  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mosis 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usion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cytosis 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ocytosis 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channels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on pump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480" y="111456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752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680" y="23623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0400" y="29718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358128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1280" y="41148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880" y="472428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2160" y="53370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n plant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3400" y="144792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160" y="2819520"/>
            <a:ext cx="8053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osmotic pressure in this cell w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3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if the transport 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sicles   membrane proteins       Needs N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mosis 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usion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cytosis 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ocytosis 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channels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on pump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1880" y="167652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286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 (aquapori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1160" y="28954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5680" y="358128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eds no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9400" y="40384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es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1160" y="46483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es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3960" y="52578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1680" y="587052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5334120"/>
            <a:ext cx="76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drogen ions can also be call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a molecule that moves across membranes using the kind of transport shown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2200" y="160020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5867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047760" cy="2476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6400" y="365760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nimal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elling and bursting =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rinking =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plant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rinking away fr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wall    =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keeps plant cells from underg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tolysis? 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920" y="6094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yt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e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5360" y="35812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6760" y="541008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wall keeps it from bur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endocytosis used to take in large particles or whole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2133720"/>
            <a:ext cx="29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352680"/>
            <a:ext cx="8471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ting a plant cell in a 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tion will cause a(n)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osmotic pressure when wat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s the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962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 plant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4800" y="106668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080" y="1981080"/>
            <a:ext cx="8282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membrane wil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rink away from the cell wall      swell &amp; burst           stay the sam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smotic pressure in this cell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2666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rink away from the cell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4880" y="533520"/>
            <a:ext cx="18939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02400" y="594360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920" y="4575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6680" y="1219320"/>
            <a:ext cx="4181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FFUSION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rier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628720" cy="2651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1400" y="4724280"/>
            <a:ext cx="29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2743200" cy="2229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0080" y="335268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8600" y="144792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520" y="3124080"/>
            <a:ext cx="43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IDE               OUTS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962520" cy="2183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805280" y="2666880"/>
            <a:ext cx="393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put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sicle and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p to the cell membra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released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2320" y="487692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uses th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04960" y="5483160"/>
            <a:ext cx="29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olgi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240" y="761400"/>
            <a:ext cx="45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emc.maricopa.edu/faculty/farabee/BIOBK/BioBooktrans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7040" y="1676520"/>
            <a:ext cx="34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- K 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56386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or     K 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00600"/>
            <a:ext cx="76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substance that in transported in this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87324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5800" y="838080"/>
            <a:ext cx="286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lionden.com/cell_animation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8960" y="1447920"/>
            <a:ext cx="38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3440" y="251460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O cell inside a ves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080" y="4194000"/>
            <a:ext cx="795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se green/blue dots represent smal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 or fluids this would be call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760" y="533412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733560" cy="2957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0880" y="838080"/>
            <a:ext cx="43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endocytb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used by glucose to 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7960" y="205740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rier 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quaporin (chann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35268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that moves water a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plant cells into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PERTONIC solution will cause water to 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er cell              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ill cause a(n) ___________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go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22240" y="380988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plant cells into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POTONIC solution will cause water to 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er cell              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ill cause a(n) ___________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go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ter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218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4952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ean water has a gre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on of dis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es than the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live there so oc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 live in a _______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water move into or out of this kind of f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3640" y="1219320"/>
            <a:ext cx="3596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re solu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lecules outsid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fish’s ce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an i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ter will mov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ave th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959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441880" y="248616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Y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8960" y="1447920"/>
            <a:ext cx="38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3440" y="289548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O cell inside a ves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40120" cy="2708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6360" y="4194000"/>
            <a:ext cx="82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 green square represents a larg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 or a whol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ould be called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302080"/>
            <a:ext cx="38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560" y="761400"/>
            <a:ext cx="47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cell-movement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 animal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3400" y="144792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640" y="2819520"/>
            <a:ext cx="828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rink        swell &amp; burst     stay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819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r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4880" y="533520"/>
            <a:ext cx="189396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3280" y="475632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e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kind of transport used by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xygen &amp; carbon dioxide  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Cl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&amp; C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er 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6080" y="533520"/>
            <a:ext cx="472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with carrie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600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28120" y="2514600"/>
            <a:ext cx="31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– K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9400" y="3809880"/>
            <a:ext cx="332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cilitated diffus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th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9520" y="4753080"/>
            <a:ext cx="67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with aquaporin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smo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7240" y="57913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048120"/>
            <a:ext cx="4343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SM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 diffusion with aquapor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3760" y="1143000"/>
            <a:ext cx="835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GRAL MEMBRANE PROTEIN provide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ageway/tunnel across the cell membrane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WATER molecules can diffuse PASSIV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53040" cy="3068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8400" y="60199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spps.kvl.dk/news/0507/Lund4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kind of transport used by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ake in large molecul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&amp; whole cells     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ake in small molec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amp; fluid           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by Golgi to transpor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cules OUT of cell   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by white blood ce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ulf and destroy bacteria 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97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3800" y="304812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3800" y="42670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6960" y="57150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essure of water pushing against the cell wall in a plant cell is called ________________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DIAGRA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7280" y="129528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sm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5360" y="579132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391160" cy="232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74000" y="57913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3800" y="57913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using aquaporins is also called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lthy cells work to “maintain stable internal conditions” also called ____________. If this doesn’t happen, cells can be damag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That is what happens when cells shrink or swell in hypotonic or hypertonic solution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57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4600" y="259092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2819520"/>
            <a:ext cx="236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2619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99520" y="1143000"/>
            <a:ext cx="845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EMBRANE PROTEIN that uses energy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LY transport hydrogen ions (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ross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re pumps different from facilitated diffusion carriers and channe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75248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mps require energy (active 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carriers and channels don’t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(passive 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mps move against the gradient (low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)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iers/channels move with the grad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hig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used by glucose to 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9400" y="1828800"/>
            <a:ext cx="76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 diffusion with a carr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dium-potassium pum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89548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that can move sodium and potassium ions AGAINST the concentration gradient f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you sit in the bathtub, your fingers get wrinkly because of the water entering your skin cells. The bathtub water is  a ____________ solution compared to your skin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600" y="36576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0720" y="5943600"/>
            <a:ext cx="70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onic            isotonic           hypert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648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type of transport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2520" y="1676520"/>
            <a:ext cx="26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3840120" cy="270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120" y="6400080"/>
            <a:ext cx="47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cell-movement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usion contin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il the concentration of molecules is equal throughout the sp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 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2200" y="396252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26290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 transport can mo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AGAINST the concentration grad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          Pa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880" y="60948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9000" y="3886200"/>
            <a:ext cx="18072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4290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mix iodine with 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will see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/pur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r cha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Becca Riedell</cp:lastModifiedBy>
  <dcterms:modified xsi:type="dcterms:W3CDTF">2008-10-05T14:19:34Z</dcterms:modified>
  <cp:revision>54</cp:revision>
  <dc:subject/>
  <dc:title>asdfs</dc:title>
</cp:coreProperties>
</file>